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0.jpeg" ContentType="image/jpeg"/>
  <Override PartName="/ppt/media/image18.png" ContentType="image/png"/>
  <Override PartName="/ppt/media/image19.jpeg" ContentType="image/jpeg"/>
  <Override PartName="/ppt/media/image16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750E2-A53E-48F2-9362-9784D5B16B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F43E6-B1CB-4BAC-8769-91FEB805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DB539-EE3F-4F06-99B2-F6115252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E0B7A-D859-4DB2-9FCD-ADAA22EC60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40F70-FF18-449E-8F94-BB779FC2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95E5A-189C-409E-99B5-8682B723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7D07A-8DDA-4787-816E-FD2BA36F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FF6DC-7594-4B8E-993E-3D0176B3D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D3BE6-BE11-41AB-90EC-5FD120D1E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0F19F-D3E6-483A-B650-A3C59935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55DFB-488F-47C9-A6C5-8D65C3D5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D91A9-8F7E-4B51-98E0-8300D8A2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1E68-B265-4AE3-82EA-91F925C0B49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zcool.com.cn/img.html?src=/g/30/43/1243698588245.jpg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zcool.com.cn/img.html?src=/g/30/43/1243698588245.jpg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1187280" y="2997360"/>
            <a:ext cx="525636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宋体"/>
              </a:rPr>
              <a:t>关节置换术后的康复护理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宋体"/>
              <a:ea typeface="宋体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556000" y="227664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ddb523"/>
                </a:solidFill>
                <a:latin typeface="Arial"/>
                <a:ea typeface="宋体"/>
              </a:rPr>
              <a:t>第十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659640" y="53006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宋体"/>
              </a:rPr>
              <a:t>张金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图片3"/>
          <p:cNvPicPr/>
          <p:nvPr/>
        </p:nvPicPr>
        <p:blipFill>
          <a:blip r:embed="rId1"/>
          <a:stretch/>
        </p:blipFill>
        <p:spPr>
          <a:xfrm>
            <a:off x="0" y="1484280"/>
            <a:ext cx="9070920" cy="5186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知识链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训练，并且适当增加训练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度，加强患肢在不负重情况下的主动运动，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肌力，改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关节活动度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变换和转移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9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巩固以往训练效果，加强本体感觉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步态训练，提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练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步态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改善和提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2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520560" y="1587600"/>
            <a:ext cx="86108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增强肌力为主，提高患侧负重       能力，加强本体感觉训练和髋关节控制训练，改善步态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摔倒，使人工置换的髋关节功能逐渐接近正常水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肌力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髋关节的抗阻力运动训练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改善步态，防止摔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4" descr="喜庆节日图标矢量素材">
            <a:hlinkClick r:id="rId1"/>
          </p:cNvPr>
          <p:cNvPicPr/>
          <p:nvPr/>
        </p:nvPicPr>
        <p:blipFill>
          <a:blip r:embed="rId2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5d0cfa6a53"/>
          <p:cNvPicPr/>
          <p:nvPr/>
        </p:nvPicPr>
        <p:blipFill>
          <a:blip r:embed="rId1"/>
          <a:stretch/>
        </p:blipFill>
        <p:spPr>
          <a:xfrm>
            <a:off x="0" y="4797360"/>
            <a:ext cx="1547640" cy="17049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前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前心理准备：减轻对手术的恐惧和精神压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重点加强患侧髋外展肌群、股四头肌的等长收缩练习，及踝关节和足趾的主动活动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患者正确使用拐杖或助行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生活活动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防止髋关节屈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90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坐位时双足分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保持身体直立和双膝在髋以下水平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卧位时在两腿间放枕头，保持双下肢外展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禁止髋关节内收、内旋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坐、站、躺时避免交叉腿和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下蹲取物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前倾或弯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要在短时间内超强度、超负荷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Picture 4" descr="喜庆节日图标矢量素材">
            <a:hlinkClick r:id="rId1"/>
          </p:cNvPr>
          <p:cNvPicPr/>
          <p:nvPr/>
        </p:nvPicPr>
        <p:blipFill>
          <a:blip r:embed="rId2"/>
          <a:srcRect l="68014" t="48645" r="899" b="33696"/>
          <a:stretch/>
        </p:blipFill>
        <p:spPr>
          <a:xfrm>
            <a:off x="0" y="5661000"/>
            <a:ext cx="115884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膝关节置换术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3" name="Group 3"/>
          <p:cNvGrpSpPr/>
          <p:nvPr/>
        </p:nvGrpSpPr>
        <p:grpSpPr>
          <a:xfrm>
            <a:off x="755640" y="2419200"/>
            <a:ext cx="2519280" cy="1008360"/>
            <a:chOff x="755640" y="2419200"/>
            <a:chExt cx="2519280" cy="1008360"/>
          </a:xfrm>
        </p:grpSpPr>
        <p:pic>
          <p:nvPicPr>
            <p:cNvPr id="214" name="Picture 4" descr="圆角底"/>
            <p:cNvPicPr/>
            <p:nvPr/>
          </p:nvPicPr>
          <p:blipFill>
            <a:blip r:embed="rId1"/>
            <a:stretch/>
          </p:blipFill>
          <p:spPr>
            <a:xfrm>
              <a:off x="755640" y="2419200"/>
              <a:ext cx="251928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5"/>
            <p:cNvSpPr/>
            <p:nvPr/>
          </p:nvSpPr>
          <p:spPr>
            <a:xfrm>
              <a:off x="1255320" y="26661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措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6" name="Group 6"/>
          <p:cNvGrpSpPr/>
          <p:nvPr/>
        </p:nvGrpSpPr>
        <p:grpSpPr>
          <a:xfrm>
            <a:off x="755640" y="5084640"/>
            <a:ext cx="2519280" cy="1006560"/>
            <a:chOff x="755640" y="5084640"/>
            <a:chExt cx="2519280" cy="1006560"/>
          </a:xfrm>
        </p:grpSpPr>
        <p:pic>
          <p:nvPicPr>
            <p:cNvPr id="217" name="Picture 7" descr="圆角底"/>
            <p:cNvPicPr/>
            <p:nvPr/>
          </p:nvPicPr>
          <p:blipFill>
            <a:blip r:embed="rId2"/>
            <a:stretch/>
          </p:blipFill>
          <p:spPr>
            <a:xfrm>
              <a:off x="755640" y="5084640"/>
              <a:ext cx="25192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8"/>
            <p:cNvSpPr/>
            <p:nvPr/>
          </p:nvSpPr>
          <p:spPr>
            <a:xfrm>
              <a:off x="1255320" y="53312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219" name="AutoShape 9"/>
          <p:cNvCxnSpPr>
            <a:stCxn id="214" idx="1"/>
            <a:endCxn id="217" idx="1"/>
          </p:cNvCxnSpPr>
          <p:nvPr/>
        </p:nvCxnSpPr>
        <p:spPr>
          <a:xfrm flipV="1" rot="10800000">
            <a:off x="754920" y="2923200"/>
            <a:ext cx="3960" cy="2664360"/>
          </a:xfrm>
          <a:prstGeom prst="bentConnector3">
            <a:avLst>
              <a:gd name="adj1" fmla="val 7500000"/>
            </a:avLst>
          </a:prstGeom>
          <a:ln w="38160">
            <a:solidFill>
              <a:srgbClr val="046ca6"/>
            </a:solidFill>
            <a:miter/>
          </a:ln>
        </p:spPr>
      </p:cxnSp>
      <p:grpSp>
        <p:nvGrpSpPr>
          <p:cNvPr id="220" name="Group 10"/>
          <p:cNvGrpSpPr/>
          <p:nvPr/>
        </p:nvGrpSpPr>
        <p:grpSpPr>
          <a:xfrm>
            <a:off x="3851280" y="4797360"/>
            <a:ext cx="3384720" cy="793800"/>
            <a:chOff x="3851280" y="4797360"/>
            <a:chExt cx="3384720" cy="793800"/>
          </a:xfrm>
        </p:grpSpPr>
        <p:pic>
          <p:nvPicPr>
            <p:cNvPr id="221" name="图片 7" descr="5.png"/>
            <p:cNvPicPr/>
            <p:nvPr/>
          </p:nvPicPr>
          <p:blipFill>
            <a:blip r:embed="rId3"/>
            <a:stretch/>
          </p:blipFill>
          <p:spPr>
            <a:xfrm>
              <a:off x="3851280" y="4797360"/>
              <a:ext cx="338472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Box 20"/>
            <p:cNvSpPr/>
            <p:nvPr/>
          </p:nvSpPr>
          <p:spPr>
            <a:xfrm>
              <a:off x="4189680" y="4965480"/>
              <a:ext cx="2624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微软雅黑"/>
                </a:rPr>
                <a:t>术前指导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3" name="Group 13"/>
          <p:cNvGrpSpPr/>
          <p:nvPr/>
        </p:nvGrpSpPr>
        <p:grpSpPr>
          <a:xfrm>
            <a:off x="3851280" y="5661000"/>
            <a:ext cx="3529080" cy="797040"/>
            <a:chOff x="3851280" y="5661000"/>
            <a:chExt cx="3529080" cy="797040"/>
          </a:xfrm>
        </p:grpSpPr>
        <p:pic>
          <p:nvPicPr>
            <p:cNvPr id="224" name="图片 7" descr="5.png"/>
            <p:cNvPicPr/>
            <p:nvPr/>
          </p:nvPicPr>
          <p:blipFill>
            <a:blip r:embed="rId4"/>
            <a:stretch/>
          </p:blipFill>
          <p:spPr>
            <a:xfrm>
              <a:off x="3851280" y="5661000"/>
              <a:ext cx="3529080" cy="7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Box 20"/>
            <p:cNvSpPr/>
            <p:nvPr/>
          </p:nvSpPr>
          <p:spPr>
            <a:xfrm>
              <a:off x="4203360" y="5830560"/>
              <a:ext cx="273528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术后生活注意事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6" name="AutoShape 16"/>
          <p:cNvSpPr/>
          <p:nvPr/>
        </p:nvSpPr>
        <p:spPr>
          <a:xfrm rot="16260000">
            <a:off x="2780280" y="1759320"/>
            <a:ext cx="3295800" cy="2303280"/>
          </a:xfrm>
          <a:prstGeom prst="upArrow">
            <a:avLst>
              <a:gd name="adj1" fmla="val 57194"/>
              <a:gd name="adj2" fmla="val 5361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7" name="Group 43"/>
          <p:cNvGrpSpPr/>
          <p:nvPr/>
        </p:nvGrpSpPr>
        <p:grpSpPr>
          <a:xfrm>
            <a:off x="5364000" y="1052640"/>
            <a:ext cx="2367000" cy="725400"/>
            <a:chOff x="5364000" y="1052640"/>
            <a:chExt cx="2367000" cy="725400"/>
          </a:xfrm>
        </p:grpSpPr>
        <p:grpSp>
          <p:nvGrpSpPr>
            <p:cNvPr id="228" name="Group 19"/>
            <p:cNvGrpSpPr/>
            <p:nvPr/>
          </p:nvGrpSpPr>
          <p:grpSpPr>
            <a:xfrm>
              <a:off x="5364000" y="1052640"/>
              <a:ext cx="2367000" cy="725400"/>
              <a:chOff x="5364000" y="1052640"/>
              <a:chExt cx="2367000" cy="725400"/>
            </a:xfrm>
          </p:grpSpPr>
          <p:sp>
            <p:nvSpPr>
              <p:cNvPr id="229" name="Oval 20"/>
              <p:cNvSpPr/>
              <p:nvPr/>
            </p:nvSpPr>
            <p:spPr>
              <a:xfrm>
                <a:off x="5364000" y="1052640"/>
                <a:ext cx="2367000" cy="725400"/>
              </a:xfrm>
              <a:prstGeom prst="ellipse">
                <a:avLst/>
              </a:prstGeom>
              <a:gradFill rotWithShape="0">
                <a:gsLst>
                  <a:gs pos="0">
                    <a:srgbClr val="99669b"/>
                  </a:gs>
                  <a:gs pos="100000">
                    <a:srgbClr val="6141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未知"/>
              <p:cNvSpPr/>
              <p:nvPr/>
            </p:nvSpPr>
            <p:spPr>
              <a:xfrm>
                <a:off x="5634360" y="1064520"/>
                <a:ext cx="1825920" cy="273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" name="Text Box 22"/>
            <p:cNvSpPr/>
            <p:nvPr/>
          </p:nvSpPr>
          <p:spPr>
            <a:xfrm>
              <a:off x="5895000" y="119700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2" name="Oval 23"/>
          <p:cNvSpPr/>
          <p:nvPr/>
        </p:nvSpPr>
        <p:spPr>
          <a:xfrm>
            <a:off x="5435640" y="1835280"/>
            <a:ext cx="251604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3" name="Group 45"/>
          <p:cNvGrpSpPr/>
          <p:nvPr/>
        </p:nvGrpSpPr>
        <p:grpSpPr>
          <a:xfrm>
            <a:off x="5416560" y="1989000"/>
            <a:ext cx="2368440" cy="727200"/>
            <a:chOff x="5416560" y="1989000"/>
            <a:chExt cx="2368440" cy="727200"/>
          </a:xfrm>
        </p:grpSpPr>
        <p:grpSp>
          <p:nvGrpSpPr>
            <p:cNvPr id="234" name="Group 25"/>
            <p:cNvGrpSpPr/>
            <p:nvPr/>
          </p:nvGrpSpPr>
          <p:grpSpPr>
            <a:xfrm>
              <a:off x="5416560" y="1989000"/>
              <a:ext cx="2368440" cy="727200"/>
              <a:chOff x="5416560" y="1989000"/>
              <a:chExt cx="2368440" cy="727200"/>
            </a:xfrm>
          </p:grpSpPr>
          <p:sp>
            <p:nvSpPr>
              <p:cNvPr id="235" name="Oval 26"/>
              <p:cNvSpPr/>
              <p:nvPr/>
            </p:nvSpPr>
            <p:spPr>
              <a:xfrm>
                <a:off x="5416560" y="1989000"/>
                <a:ext cx="2368440" cy="727200"/>
              </a:xfrm>
              <a:prstGeom prst="ellipse">
                <a:avLst/>
              </a:prstGeom>
              <a:gradFill rotWithShape="0">
                <a:gsLst>
                  <a:gs pos="0">
                    <a:srgbClr val="ddb523"/>
                  </a:gs>
                  <a:gs pos="100000">
                    <a:srgbClr val="725d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5688360" y="2001240"/>
                <a:ext cx="1825560" cy="2728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b52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7" name="Text Box 28"/>
            <p:cNvSpPr/>
            <p:nvPr/>
          </p:nvSpPr>
          <p:spPr>
            <a:xfrm>
              <a:off x="5580000" y="2133720"/>
              <a:ext cx="21319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Oval 29"/>
          <p:cNvSpPr/>
          <p:nvPr/>
        </p:nvSpPr>
        <p:spPr>
          <a:xfrm>
            <a:off x="5475240" y="2770200"/>
            <a:ext cx="245592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9" name="Group 44"/>
          <p:cNvGrpSpPr/>
          <p:nvPr/>
        </p:nvGrpSpPr>
        <p:grpSpPr>
          <a:xfrm>
            <a:off x="5364000" y="2997360"/>
            <a:ext cx="2349720" cy="712800"/>
            <a:chOff x="5364000" y="2997360"/>
            <a:chExt cx="2349720" cy="712800"/>
          </a:xfrm>
        </p:grpSpPr>
        <p:grpSp>
          <p:nvGrpSpPr>
            <p:cNvPr id="240" name="Group 31"/>
            <p:cNvGrpSpPr/>
            <p:nvPr/>
          </p:nvGrpSpPr>
          <p:grpSpPr>
            <a:xfrm>
              <a:off x="5364000" y="2997360"/>
              <a:ext cx="2349720" cy="712800"/>
              <a:chOff x="5364000" y="2997360"/>
              <a:chExt cx="2349720" cy="712800"/>
            </a:xfrm>
          </p:grpSpPr>
          <p:sp>
            <p:nvSpPr>
              <p:cNvPr id="241" name="Oval 32"/>
              <p:cNvSpPr/>
              <p:nvPr/>
            </p:nvSpPr>
            <p:spPr>
              <a:xfrm>
                <a:off x="5364000" y="2997360"/>
                <a:ext cx="2349720" cy="712800"/>
              </a:xfrm>
              <a:prstGeom prst="ellipse">
                <a:avLst/>
              </a:prstGeom>
              <a:gradFill rotWithShape="0">
                <a:gsLst>
                  <a:gs pos="0">
                    <a:srgbClr val="8ac8de"/>
                  </a:gs>
                  <a:gs pos="100000">
                    <a:srgbClr val="4767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5632560" y="3008160"/>
                <a:ext cx="1812600" cy="2696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ac8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3" name="Text Box 34"/>
            <p:cNvSpPr/>
            <p:nvPr/>
          </p:nvSpPr>
          <p:spPr>
            <a:xfrm>
              <a:off x="5508720" y="3141720"/>
              <a:ext cx="21142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4" name="Oval 35"/>
          <p:cNvSpPr/>
          <p:nvPr/>
        </p:nvSpPr>
        <p:spPr>
          <a:xfrm>
            <a:off x="5445000" y="3782880"/>
            <a:ext cx="243540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5" name="Group 46"/>
          <p:cNvGrpSpPr/>
          <p:nvPr/>
        </p:nvGrpSpPr>
        <p:grpSpPr>
          <a:xfrm>
            <a:off x="5435640" y="3933720"/>
            <a:ext cx="2427120" cy="717480"/>
            <a:chOff x="5435640" y="3933720"/>
            <a:chExt cx="2427120" cy="717480"/>
          </a:xfrm>
        </p:grpSpPr>
        <p:grpSp>
          <p:nvGrpSpPr>
            <p:cNvPr id="246" name="Group 38"/>
            <p:cNvGrpSpPr/>
            <p:nvPr/>
          </p:nvGrpSpPr>
          <p:grpSpPr>
            <a:xfrm>
              <a:off x="5435640" y="3933720"/>
              <a:ext cx="2427120" cy="717480"/>
              <a:chOff x="5435640" y="3933720"/>
              <a:chExt cx="2427120" cy="717480"/>
            </a:xfrm>
          </p:grpSpPr>
          <p:sp>
            <p:nvSpPr>
              <p:cNvPr id="247" name="Oval 39"/>
              <p:cNvSpPr/>
              <p:nvPr/>
            </p:nvSpPr>
            <p:spPr>
              <a:xfrm>
                <a:off x="5435640" y="3933720"/>
                <a:ext cx="2427120" cy="71748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未知"/>
              <p:cNvSpPr/>
              <p:nvPr/>
            </p:nvSpPr>
            <p:spPr>
              <a:xfrm>
                <a:off x="5712840" y="3945600"/>
                <a:ext cx="1872360" cy="270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9" name="Text Box 41"/>
            <p:cNvSpPr/>
            <p:nvPr/>
          </p:nvSpPr>
          <p:spPr>
            <a:xfrm>
              <a:off x="5716440" y="4076640"/>
              <a:ext cx="177480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至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个月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0" name="Oval 42"/>
          <p:cNvSpPr/>
          <p:nvPr/>
        </p:nvSpPr>
        <p:spPr>
          <a:xfrm>
            <a:off x="5435640" y="4719600"/>
            <a:ext cx="251604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控制疼痛、肿胀，预防感染和血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成，促进伤口正常愈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情观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摆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3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患侧膝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以及不负重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态下的主动运动，改善关节主动活动范围，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全身体能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基础治疗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6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加强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的训练，并逐渐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强度，恢复患肢负重能力，加强行走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态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9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学习目标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5141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关节置换术的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出髋、膝关节置换术后的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容及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道关节置换术后康复护理目的、主要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障碍及康复护理评定的内容。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图片 3" descr="护士.jpg"/>
          <p:cNvPicPr/>
          <p:nvPr/>
        </p:nvPicPr>
        <p:blipFill>
          <a:blip r:embed="rId3"/>
          <a:stretch/>
        </p:blipFill>
        <p:spPr>
          <a:xfrm>
            <a:off x="6516720" y="4221000"/>
            <a:ext cx="211752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加强膝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肌力练习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加患肢活动范围，改善膝部稳定性、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控制和生活自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维持性康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2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指导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①术前宣教，减轻焦虑心理；②重点加强患侧踝泵运动和患侧下肢的等长收缩练习，及膝关节的屈伸练习；③指导患者正确使用拐杖或助行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伤口愈合情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负重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38160" dir="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案列导入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38160" dir="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1" name="Picture 3" descr="图片1"/>
          <p:cNvPicPr/>
          <p:nvPr/>
        </p:nvPicPr>
        <p:blipFill>
          <a:blip r:embed="rId3"/>
          <a:stretch/>
        </p:blipFill>
        <p:spPr>
          <a:xfrm>
            <a:off x="0" y="1898640"/>
            <a:ext cx="5292720" cy="419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7308720" y="1413000"/>
            <a:ext cx="1573200" cy="15746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5148360" y="3213000"/>
            <a:ext cx="37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髋关节置换术后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应采取哪些康复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为护士，你又该如何对该患者进行康复护理指导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434880" y="1539720"/>
            <a:ext cx="68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关节置换术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joint replacemen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3" descr="38851262772945109"/>
          <p:cNvPicPr/>
          <p:nvPr/>
        </p:nvPicPr>
        <p:blipFill>
          <a:blip r:embed="rId1"/>
          <a:stretch/>
        </p:blipFill>
        <p:spPr>
          <a:xfrm>
            <a:off x="6445080" y="3933720"/>
            <a:ext cx="2347920" cy="2229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617400" y="2276640"/>
            <a:ext cx="7770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机械性能或生物相容性良好的材料，制成一种类似人体关节的假体来置换严重受损的自体关节，以人工髋、膝关节置换术应用最为普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11280" y="4149720"/>
            <a:ext cx="61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节主要介绍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髋关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换术后和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膝关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换术后的康复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190440" y="1137960"/>
            <a:ext cx="8721000" cy="2789640"/>
            <a:chOff x="190440" y="1137960"/>
            <a:chExt cx="8721000" cy="2789640"/>
          </a:xfrm>
        </p:grpSpPr>
        <p:sp>
          <p:nvSpPr>
            <p:cNvPr id="121" name="Oval 4"/>
            <p:cNvSpPr/>
            <p:nvPr/>
          </p:nvSpPr>
          <p:spPr>
            <a:xfrm>
              <a:off x="4557600" y="2998800"/>
              <a:ext cx="4052880" cy="711000"/>
            </a:xfrm>
            <a:prstGeom prst="ellipse">
              <a:avLst/>
            </a:prstGeom>
            <a:gradFill rotWithShape="0">
              <a:gsLst>
                <a:gs pos="0">
                  <a:srgbClr val="99ff33">
                    <a:alpha val="40000"/>
                  </a:srgbClr>
                </a:gs>
                <a:gs pos="100000">
                  <a:srgbClr val="4776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Oval 5"/>
            <p:cNvSpPr/>
            <p:nvPr/>
          </p:nvSpPr>
          <p:spPr>
            <a:xfrm>
              <a:off x="373680" y="2965680"/>
              <a:ext cx="4494960" cy="711000"/>
            </a:xfrm>
            <a:prstGeom prst="ellipse">
              <a:avLst/>
            </a:prstGeom>
            <a:gradFill rotWithShape="0">
              <a:gsLst>
                <a:gs pos="0">
                  <a:srgbClr val="99ff33">
                    <a:alpha val="40000"/>
                  </a:srgbClr>
                </a:gs>
                <a:gs pos="100000">
                  <a:srgbClr val="4776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Oval 6"/>
            <p:cNvSpPr/>
            <p:nvPr/>
          </p:nvSpPr>
          <p:spPr>
            <a:xfrm>
              <a:off x="671040" y="1881000"/>
              <a:ext cx="3886560" cy="1256040"/>
            </a:xfrm>
            <a:prstGeom prst="ellipse">
              <a:avLst/>
            </a:prstGeom>
            <a:gradFill rotWithShape="0">
              <a:gsLst>
                <a:gs pos="0">
                  <a:srgbClr val="99ff33"/>
                </a:gs>
                <a:gs pos="50000">
                  <a:srgbClr val="375c12"/>
                </a:gs>
                <a:gs pos="100000">
                  <a:srgbClr val="99ff3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Oval 7"/>
            <p:cNvSpPr/>
            <p:nvPr/>
          </p:nvSpPr>
          <p:spPr>
            <a:xfrm>
              <a:off x="4557600" y="1766880"/>
              <a:ext cx="3930840" cy="13716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50000">
                  <a:srgbClr val="4a1200"/>
                </a:gs>
                <a:gs pos="100000">
                  <a:srgbClr val="cc33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WordArt 8"/>
            <p:cNvSpPr txBox="1"/>
            <p:nvPr/>
          </p:nvSpPr>
          <p:spPr>
            <a:xfrm>
              <a:off x="1861560" y="2140560"/>
              <a:ext cx="1486080" cy="56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89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20000"/>
                        </a:srgbClr>
                      </a:gs>
                      <a:gs pos="100000">
                        <a:srgbClr val="ffffff">
                          <a:alpha val="60000"/>
                        </a:srgbClr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16000"/>
                      </a:srgbClr>
                    </a:outerShdw>
                  </a:effectLst>
                  <a:latin typeface="+mn-ea"/>
                </a:rPr>
                <a:t>疼痛</a:t>
              </a:r>
              <a:endPara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20000"/>
                      </a:srgbClr>
                    </a:gs>
                    <a:gs pos="100000">
                      <a:srgbClr val="ffffff">
                        <a:alpha val="60000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16000"/>
                    </a:srgbClr>
                  </a:outerShdw>
                </a:effectLst>
                <a:latin typeface="+mn-ea"/>
                <a:ea typeface="+mn-ea"/>
              </a:endParaRPr>
            </a:p>
          </p:txBody>
        </p:sp>
        <p:sp>
          <p:nvSpPr>
            <p:cNvPr id="126" name="WordArt 9"/>
            <p:cNvSpPr txBox="1"/>
            <p:nvPr/>
          </p:nvSpPr>
          <p:spPr>
            <a:xfrm>
              <a:off x="5582160" y="2068200"/>
              <a:ext cx="2014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89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20000"/>
                        </a:srgbClr>
                      </a:gs>
                      <a:gs pos="100000">
                        <a:srgbClr val="ffffff">
                          <a:alpha val="60000"/>
                        </a:srgbClr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16000"/>
                      </a:srgbClr>
                    </a:outerShdw>
                  </a:effectLst>
                  <a:latin typeface="+mn-ea"/>
                </a:rPr>
                <a:t>运动障碍</a:t>
              </a:r>
              <a:endPara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20000"/>
                      </a:srgbClr>
                    </a:gs>
                    <a:gs pos="100000">
                      <a:srgbClr val="ffffff">
                        <a:alpha val="60000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16000"/>
                    </a:srgbClr>
                  </a:outerShdw>
                </a:effectLst>
                <a:latin typeface="+mn-ea"/>
                <a:ea typeface="+mn-ea"/>
              </a:endParaRPr>
            </a:p>
          </p:txBody>
        </p:sp>
        <p:sp>
          <p:nvSpPr>
            <p:cNvPr id="127" name="Oval 10"/>
            <p:cNvSpPr/>
            <p:nvPr/>
          </p:nvSpPr>
          <p:spPr>
            <a:xfrm rot="420000">
              <a:off x="518400" y="1770840"/>
              <a:ext cx="4645440" cy="1229760"/>
            </a:xfrm>
            <a:prstGeom prst="ellipse">
              <a:avLst/>
            </a:prstGeom>
            <a:noFill/>
            <a:ln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190440" y="3786120"/>
              <a:ext cx="4957920" cy="3600"/>
            </a:xfrm>
            <a:prstGeom prst="line">
              <a:avLst/>
            </a:prstGeom>
            <a:ln w="127080">
              <a:solidFill>
                <a:srgbClr val="99cc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V="1">
              <a:off x="4571640" y="3786120"/>
              <a:ext cx="4325760" cy="3600"/>
            </a:xfrm>
            <a:prstGeom prst="line">
              <a:avLst/>
            </a:prstGeom>
            <a:ln w="127080">
              <a:solidFill>
                <a:srgbClr val="ff66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Line 13"/>
            <p:cNvSpPr/>
            <p:nvPr/>
          </p:nvSpPr>
          <p:spPr>
            <a:xfrm>
              <a:off x="4554720" y="36990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Oval 14"/>
            <p:cNvSpPr/>
            <p:nvPr/>
          </p:nvSpPr>
          <p:spPr>
            <a:xfrm rot="10080000">
              <a:off x="3721680" y="1658520"/>
              <a:ext cx="5126760" cy="1143000"/>
            </a:xfrm>
            <a:prstGeom prst="ellipse">
              <a:avLst/>
            </a:prstGeom>
            <a:noFill/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15"/>
            <p:cNvSpPr/>
            <p:nvPr/>
          </p:nvSpPr>
          <p:spPr>
            <a:xfrm>
              <a:off x="3923280" y="3718080"/>
              <a:ext cx="1224360" cy="147240"/>
            </a:xfrm>
            <a:prstGeom prst="flowChartProcess">
              <a:avLst/>
            </a:prstGeom>
            <a:solidFill>
              <a:srgbClr val="fe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3" name="Picture 16" descr="圆角底"/>
          <p:cNvPicPr/>
          <p:nvPr/>
        </p:nvPicPr>
        <p:blipFill>
          <a:blip r:embed="rId1"/>
          <a:stretch/>
        </p:blipFill>
        <p:spPr>
          <a:xfrm>
            <a:off x="828720" y="3933720"/>
            <a:ext cx="3024000" cy="2376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圆角底"/>
          <p:cNvPicPr/>
          <p:nvPr/>
        </p:nvPicPr>
        <p:blipFill>
          <a:blip r:embed="rId2"/>
          <a:stretch/>
        </p:blipFill>
        <p:spPr>
          <a:xfrm>
            <a:off x="5291280" y="3933720"/>
            <a:ext cx="3024000" cy="2376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8"/>
          <p:cNvSpPr/>
          <p:nvPr/>
        </p:nvSpPr>
        <p:spPr>
          <a:xfrm>
            <a:off x="984240" y="432900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疼痛剧烈或持续时间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，应详细检查，找出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5446800" y="396540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表现为髋、膝关节活动受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关节源性肌萎缩和肌力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站立平衡障碍和步行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453960" y="1882800"/>
            <a:ext cx="8375760" cy="4005360"/>
            <a:chOff x="453960" y="1882800"/>
            <a:chExt cx="8375760" cy="4005360"/>
          </a:xfrm>
        </p:grpSpPr>
        <p:sp>
          <p:nvSpPr>
            <p:cNvPr id="139" name="Rectangle 4"/>
            <p:cNvSpPr/>
            <p:nvPr/>
          </p:nvSpPr>
          <p:spPr>
            <a:xfrm rot="3360000">
              <a:off x="7626960" y="2002680"/>
              <a:ext cx="915840" cy="11779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 rot="3360000">
              <a:off x="741600" y="2700360"/>
              <a:ext cx="915840" cy="1181160"/>
            </a:xfrm>
            <a:prstGeom prst="rect">
              <a:avLst/>
            </a:prstGeom>
            <a:gradFill rotWithShape="0">
              <a:gsLst>
                <a:gs pos="0">
                  <a:srgbClr val="8ac8de"/>
                </a:gs>
                <a:gs pos="100000">
                  <a:srgbClr val="405d67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6"/>
            <p:cNvSpPr/>
            <p:nvPr/>
          </p:nvSpPr>
          <p:spPr>
            <a:xfrm>
              <a:off x="721080" y="3008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疼痛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 rot="3360000">
              <a:off x="2427840" y="4589280"/>
              <a:ext cx="915840" cy="1179000"/>
            </a:xfrm>
            <a:prstGeom prst="rect">
              <a:avLst/>
            </a:prstGeom>
            <a:gradFill rotWithShape="0">
              <a:gsLst>
                <a:gs pos="0">
                  <a:srgbClr val="99669b"/>
                </a:gs>
                <a:gs pos="100000">
                  <a:srgbClr val="472f48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8"/>
            <p:cNvSpPr/>
            <p:nvPr/>
          </p:nvSpPr>
          <p:spPr>
            <a:xfrm>
              <a:off x="2408400" y="487656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 rot="3360000">
              <a:off x="4863240" y="3446640"/>
              <a:ext cx="915840" cy="117900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10"/>
            <p:cNvSpPr/>
            <p:nvPr/>
          </p:nvSpPr>
          <p:spPr>
            <a:xfrm>
              <a:off x="4843080" y="369252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关节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Text Box 11"/>
            <p:cNvSpPr/>
            <p:nvPr/>
          </p:nvSpPr>
          <p:spPr>
            <a:xfrm>
              <a:off x="7590960" y="2367720"/>
              <a:ext cx="10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X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线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1598760" y="3741480"/>
              <a:ext cx="896040" cy="105804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 flipV="1">
              <a:off x="3480480" y="4269600"/>
              <a:ext cx="1254600" cy="60480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 flipV="1">
              <a:off x="5990400" y="2897280"/>
              <a:ext cx="1522800" cy="76788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0" name="Text Box 15"/>
          <p:cNvSpPr/>
          <p:nvPr/>
        </p:nvSpPr>
        <p:spPr>
          <a:xfrm>
            <a:off x="2338560" y="2131920"/>
            <a:ext cx="44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此外，还应进行日常生活活动能力、心理状态 、生活质量等方面的评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16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516720" y="3573360"/>
            <a:ext cx="230976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77080" y="3916440"/>
            <a:ext cx="2224080" cy="2502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康复护理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08000" y="1774800"/>
            <a:ext cx="7993080" cy="4111200"/>
            <a:chOff x="108000" y="1774800"/>
            <a:chExt cx="7993080" cy="4111200"/>
          </a:xfrm>
        </p:grpSpPr>
        <p:sp>
          <p:nvSpPr>
            <p:cNvPr id="155" name="AutoShape 5"/>
            <p:cNvSpPr/>
            <p:nvPr/>
          </p:nvSpPr>
          <p:spPr>
            <a:xfrm>
              <a:off x="108000" y="480672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缓解疼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682560" y="379080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692aa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恢复和改善关节的运动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169640" y="2783160"/>
              <a:ext cx="6481800" cy="1080720"/>
            </a:xfrm>
            <a:prstGeom prst="cube">
              <a:avLst>
                <a:gd name="adj" fmla="val 25000"/>
              </a:avLst>
            </a:prstGeom>
            <a:solidFill>
              <a:srgbClr val="8ac8d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促进患者恢复体力及日常生活活动的能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延长人工关节的使用寿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AutoShape 8"/>
            <p:cNvSpPr/>
            <p:nvPr/>
          </p:nvSpPr>
          <p:spPr>
            <a:xfrm>
              <a:off x="1619280" y="177480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避免假体脱位、下肢深静脉血栓、肌肉萎缩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并发症的发生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提高生活质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髋关节置换术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755640" y="2419200"/>
            <a:ext cx="2519280" cy="1008360"/>
            <a:chOff x="755640" y="2419200"/>
            <a:chExt cx="2519280" cy="1008360"/>
          </a:xfrm>
        </p:grpSpPr>
        <p:pic>
          <p:nvPicPr>
            <p:cNvPr id="161" name="Picture 4" descr="圆角底"/>
            <p:cNvPicPr/>
            <p:nvPr/>
          </p:nvPicPr>
          <p:blipFill>
            <a:blip r:embed="rId1"/>
            <a:stretch/>
          </p:blipFill>
          <p:spPr>
            <a:xfrm>
              <a:off x="755640" y="2419200"/>
              <a:ext cx="251928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5"/>
            <p:cNvSpPr/>
            <p:nvPr/>
          </p:nvSpPr>
          <p:spPr>
            <a:xfrm>
              <a:off x="1255320" y="26661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措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3" name="Group 6"/>
          <p:cNvGrpSpPr/>
          <p:nvPr/>
        </p:nvGrpSpPr>
        <p:grpSpPr>
          <a:xfrm>
            <a:off x="755640" y="5084640"/>
            <a:ext cx="2519280" cy="1006560"/>
            <a:chOff x="755640" y="5084640"/>
            <a:chExt cx="2519280" cy="1006560"/>
          </a:xfrm>
        </p:grpSpPr>
        <p:pic>
          <p:nvPicPr>
            <p:cNvPr id="164" name="Picture 7" descr="圆角底"/>
            <p:cNvPicPr/>
            <p:nvPr/>
          </p:nvPicPr>
          <p:blipFill>
            <a:blip r:embed="rId2"/>
            <a:stretch/>
          </p:blipFill>
          <p:spPr>
            <a:xfrm>
              <a:off x="755640" y="5084640"/>
              <a:ext cx="25192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8"/>
            <p:cNvSpPr/>
            <p:nvPr/>
          </p:nvSpPr>
          <p:spPr>
            <a:xfrm>
              <a:off x="1255320" y="53312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166" name="AutoShape 9"/>
          <p:cNvCxnSpPr>
            <a:stCxn id="161" idx="1"/>
            <a:endCxn id="164" idx="1"/>
          </p:cNvCxnSpPr>
          <p:nvPr/>
        </p:nvCxnSpPr>
        <p:spPr>
          <a:xfrm flipV="1" rot="10800000">
            <a:off x="754920" y="2923200"/>
            <a:ext cx="3960" cy="2664360"/>
          </a:xfrm>
          <a:prstGeom prst="bentConnector3">
            <a:avLst>
              <a:gd name="adj1" fmla="val 7500000"/>
            </a:avLst>
          </a:prstGeom>
          <a:ln w="38160">
            <a:solidFill>
              <a:srgbClr val="046ca6"/>
            </a:solidFill>
            <a:miter/>
          </a:ln>
        </p:spPr>
      </p:cxnSp>
      <p:pic>
        <p:nvPicPr>
          <p:cNvPr id="167" name="图片 7" descr="5.png"/>
          <p:cNvPicPr/>
          <p:nvPr/>
        </p:nvPicPr>
        <p:blipFill>
          <a:blip r:embed="rId3"/>
          <a:stretch/>
        </p:blipFill>
        <p:spPr>
          <a:xfrm>
            <a:off x="3851280" y="4869000"/>
            <a:ext cx="3384720" cy="8650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20"/>
          <p:cNvSpPr/>
          <p:nvPr/>
        </p:nvSpPr>
        <p:spPr>
          <a:xfrm>
            <a:off x="4140360" y="5013360"/>
            <a:ext cx="26240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术前指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图片 7" descr="5.png"/>
          <p:cNvPicPr/>
          <p:nvPr/>
        </p:nvPicPr>
        <p:blipFill>
          <a:blip r:embed="rId4"/>
          <a:stretch/>
        </p:blipFill>
        <p:spPr>
          <a:xfrm>
            <a:off x="3851280" y="5527800"/>
            <a:ext cx="3529080" cy="9302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0"/>
          <p:cNvSpPr/>
          <p:nvPr/>
        </p:nvSpPr>
        <p:spPr>
          <a:xfrm>
            <a:off x="4140360" y="5661000"/>
            <a:ext cx="2865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后生活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 rot="16260000">
            <a:off x="2780280" y="1759320"/>
            <a:ext cx="3295800" cy="2303280"/>
          </a:xfrm>
          <a:prstGeom prst="upArrow">
            <a:avLst>
              <a:gd name="adj1" fmla="val 57194"/>
              <a:gd name="adj2" fmla="val 5361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未知"/>
          <p:cNvSpPr/>
          <p:nvPr/>
        </p:nvSpPr>
        <p:spPr>
          <a:xfrm>
            <a:off x="5605560" y="1044720"/>
            <a:ext cx="1828800" cy="34452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66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3" name="Group 43"/>
          <p:cNvGrpSpPr/>
          <p:nvPr/>
        </p:nvGrpSpPr>
        <p:grpSpPr>
          <a:xfrm>
            <a:off x="5334120" y="1028880"/>
            <a:ext cx="2371680" cy="912600"/>
            <a:chOff x="5334120" y="1028880"/>
            <a:chExt cx="2371680" cy="912600"/>
          </a:xfrm>
        </p:grpSpPr>
        <p:sp>
          <p:nvSpPr>
            <p:cNvPr id="174" name="Oval 20"/>
            <p:cNvSpPr/>
            <p:nvPr/>
          </p:nvSpPr>
          <p:spPr>
            <a:xfrm>
              <a:off x="5334120" y="1028880"/>
              <a:ext cx="2371680" cy="912600"/>
            </a:xfrm>
            <a:prstGeom prst="ellipse">
              <a:avLst/>
            </a:prstGeom>
            <a:gradFill rotWithShape="0">
              <a:gsLst>
                <a:gs pos="0">
                  <a:srgbClr val="99669b"/>
                </a:gs>
                <a:gs pos="100000">
                  <a:srgbClr val="6141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Text Box 22"/>
            <p:cNvSpPr/>
            <p:nvPr/>
          </p:nvSpPr>
          <p:spPr>
            <a:xfrm>
              <a:off x="5651640" y="1268280"/>
              <a:ext cx="171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6" name="Oval 23"/>
          <p:cNvSpPr/>
          <p:nvPr/>
        </p:nvSpPr>
        <p:spPr>
          <a:xfrm>
            <a:off x="5435640" y="1832040"/>
            <a:ext cx="2521080" cy="228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7" name="Group 25"/>
          <p:cNvGrpSpPr/>
          <p:nvPr/>
        </p:nvGrpSpPr>
        <p:grpSpPr>
          <a:xfrm>
            <a:off x="5364000" y="2060640"/>
            <a:ext cx="2368800" cy="726840"/>
            <a:chOff x="5364000" y="2060640"/>
            <a:chExt cx="2368800" cy="726840"/>
          </a:xfrm>
        </p:grpSpPr>
        <p:sp>
          <p:nvSpPr>
            <p:cNvPr id="178" name="Oval 26"/>
            <p:cNvSpPr/>
            <p:nvPr/>
          </p:nvSpPr>
          <p:spPr>
            <a:xfrm>
              <a:off x="5364000" y="2060640"/>
              <a:ext cx="2368800" cy="72684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5635800" y="2072880"/>
              <a:ext cx="1825920" cy="27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0" name="Text Box 28"/>
          <p:cNvSpPr/>
          <p:nvPr/>
        </p:nvSpPr>
        <p:spPr>
          <a:xfrm>
            <a:off x="5508720" y="2205000"/>
            <a:ext cx="2131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Oval 29"/>
          <p:cNvSpPr/>
          <p:nvPr/>
        </p:nvSpPr>
        <p:spPr>
          <a:xfrm>
            <a:off x="5423040" y="2841480"/>
            <a:ext cx="245556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2" name="Group 31"/>
          <p:cNvGrpSpPr/>
          <p:nvPr/>
        </p:nvGrpSpPr>
        <p:grpSpPr>
          <a:xfrm>
            <a:off x="5364000" y="2997360"/>
            <a:ext cx="2349720" cy="712800"/>
            <a:chOff x="5364000" y="2997360"/>
            <a:chExt cx="2349720" cy="712800"/>
          </a:xfrm>
        </p:grpSpPr>
        <p:sp>
          <p:nvSpPr>
            <p:cNvPr id="183" name="Oval 32"/>
            <p:cNvSpPr/>
            <p:nvPr/>
          </p:nvSpPr>
          <p:spPr>
            <a:xfrm>
              <a:off x="5364000" y="2997360"/>
              <a:ext cx="2349720" cy="712800"/>
            </a:xfrm>
            <a:prstGeom prst="ellipse">
              <a:avLst/>
            </a:prstGeom>
            <a:gradFill rotWithShape="0">
              <a:gsLst>
                <a:gs pos="0">
                  <a:srgbClr val="8ac8de"/>
                </a:gs>
                <a:gs pos="100000">
                  <a:srgbClr val="476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5632560" y="3008160"/>
              <a:ext cx="1812600" cy="2696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c8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5" name="Text Box 34"/>
          <p:cNvSpPr/>
          <p:nvPr/>
        </p:nvSpPr>
        <p:spPr>
          <a:xfrm>
            <a:off x="5508720" y="3068640"/>
            <a:ext cx="2114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Oval 35"/>
          <p:cNvSpPr/>
          <p:nvPr/>
        </p:nvSpPr>
        <p:spPr>
          <a:xfrm>
            <a:off x="5445000" y="3782880"/>
            <a:ext cx="243540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7" name="Group 38"/>
          <p:cNvGrpSpPr/>
          <p:nvPr/>
        </p:nvGrpSpPr>
        <p:grpSpPr>
          <a:xfrm>
            <a:off x="5419800" y="3933720"/>
            <a:ext cx="2428920" cy="717480"/>
            <a:chOff x="5419800" y="3933720"/>
            <a:chExt cx="2428920" cy="717480"/>
          </a:xfrm>
        </p:grpSpPr>
        <p:sp>
          <p:nvSpPr>
            <p:cNvPr id="188" name="Oval 39"/>
            <p:cNvSpPr/>
            <p:nvPr/>
          </p:nvSpPr>
          <p:spPr>
            <a:xfrm>
              <a:off x="5419800" y="3933720"/>
              <a:ext cx="2428920" cy="7174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2424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5697360" y="3945600"/>
              <a:ext cx="1873800" cy="2707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0" name="Text Box 41"/>
          <p:cNvSpPr/>
          <p:nvPr/>
        </p:nvSpPr>
        <p:spPr>
          <a:xfrm>
            <a:off x="5716440" y="4076640"/>
            <a:ext cx="17748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周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个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Oval 42"/>
          <p:cNvSpPr/>
          <p:nvPr/>
        </p:nvSpPr>
        <p:spPr>
          <a:xfrm>
            <a:off x="5435640" y="4719600"/>
            <a:ext cx="251784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控制疼痛和出血，减轻水肿，保护创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部位，防止下肢深静脉血栓，维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情观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摆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关节活动度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早期负重训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7T01:42:32Z</dcterms:modified>
  <cp:revision>5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